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99DF8-22C3-45BA-9D7C-DC1D58F7094C}"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311F9-64A7-4CD0-B1FB-D6E734AEBF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C1602-6F11-48BC-B51B-73682447096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6848-AE84-42DF-BADA-F8A1C579056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46264-55F9-4936-BE1D-715B6DF2074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E42E7-0838-4F17-B7B2-B6743DCE46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CE8D-2C34-4ABC-8606-4430080DDDF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2DA9-DD76-48E7-9433-DB3825D6D12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D4E89-8C91-43CF-AB57-8EA171B2486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FD58-9870-4930-8186-AC93C7C8B45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456AE-675C-426F-81F6-2BC6B50F021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671C5-B9A4-41A4-A10B-895A33E640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C0725-7E8B-42B9-B28A-65D5F13FE75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A56E1-B087-44EA-BC67-C3BEC692AF1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AB9BF-2766-456C-95A1-26F4C62FA6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2D2B6-3E1F-4CA4-9399-BEC003E52F6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3CFC2-1D5C-4D81-A5A8-75593B41EE5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FCCDA-D5CF-4C4C-8AC6-E125C7C2EC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9228F-022A-495E-9C67-DDF6D24897E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AB0F1F-AD2F-4558-BECD-A507E702638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3515-0863-4333-AC43-0292A6FB2B2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44A73-C30B-43EF-BDA7-594A850F16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1F68-EC82-4556-9240-89BFFC67804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90895-3E09-4AA8-8FD8-590C2D6D846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7D7ED-6671-42C2-8FE4-B93B0A900D8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C5F04-C8E7-456F-9C98-E2121B8C4C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3AB7E-03C9-47E4-A892-7A8637AFEE5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2FB72-0015-4EC6-B6CB-F075C92E586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A17B3-EEB6-4741-B543-51F35C0007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CB131-78C1-40FC-B34C-FDC1440A84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5A1A8-17B0-4B53-B3B4-DD36A0A5E5F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A3DD5-102A-4D89-B649-FAF38B0A449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11A0-7CF5-45F1-9C57-7E5FCF4FE3D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Job Seekers, Students, New Canadians, Employ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SSISTED does not mean there is no staff suppor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ss to information and resource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4573-E227-4368-ADB6-CB1F83A5693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DA86-4A84-4998-A21B-C599297715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736A8-7413-4C93-A616-2849EC8BD6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B9D46-1FE4-4DE7-B37F-CA53A6EE2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8B0CA-AEAA-4937-8977-573EEDDAA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2C3914-5B27-4D5A-B15B-1F8A61DE8B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6D5203-3A96-452B-A614-2ACBE43995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969366-8369-4FF3-BDCF-331AED272B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43B38-40A0-4D6F-B328-C2839E9304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068A8-6244-4236-B890-66444F5B9B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41751F-8D02-4814-A6D3-03B4917BA5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F50BBC-A9EF-409F-85EE-C735A1EAA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198E9-17EE-427D-8E5B-C5012A2759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5976F-56C3-4C80-A871-70FEB4AD5E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60951-EC5A-4094-88D7-9497DD846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B97D3-6527-434F-8BCB-94F2B64DD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D853-D28D-42D2-9D71-D8A182B19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1485F1-513B-4E5E-8480-C58977AF4B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376BA5-B7F3-4690-9BF1-0CC8086012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1069FB6-9A85-4149-BAE6-ACD797FD9D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798B29E0-CB5D-49AD-8777-E22FE207B5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0556E8F-64E0-4780-B96F-B21527326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7DEEEBF-B9DF-41D2-BE15-F43D98AD8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03E8334-8512-4D5D-A761-7DEC389F33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BDAA4E-CADC-44D6-99B9-1EFB1F702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BFB7939-9DBF-47D1-816B-D597E557AE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A884125-EBF3-45EF-82CB-C9C6235313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3C8477C0-25BB-4244-85EF-1A7F86B239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E459ED7-4371-4C40-BEB7-09F61076E3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70C29E3-BB01-4718-B6C9-8B8A334AEC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F74BA97F-38B0-408A-82E3-EF8DF92A1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F697BEE-EE62-426D-9D8F-7FDA3DB7DD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0C88C7D0-2FC5-4A28-8000-D046D402693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E04EECC-9041-472F-A782-98EA37884F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0F57250-B687-4B37-BA04-2DBDBC97C8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FF3904-E133-4F2C-B902-059EF8A687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319F420F-940C-4A6C-946C-4A77637D24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25BA24A-74C5-4BC3-81FE-CE0E31118C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6A7E6CC-4223-462A-AA16-E9E10F65BF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7C50CF-B3E1-411A-BB2F-0BAF2DEE9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799B239-12E7-42E0-8A51-5743D97B6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64B66DE-741B-4132-8F5F-3E379141E9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84E9AA1-A4D3-480D-A249-E965455DDA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6AECD22-E376-4D40-B2BF-4D7553FC66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0EFEEA5-FCA1-4B07-82B0-3D0A164AEC1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CAF8C30F-EF76-4D80-BA05-3131011CAB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230500-AC54-4842-B2EC-B255FE61FF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8721353-DC6E-4658-991C-0CD5D66467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4209794-B04E-4941-BA8D-E668603AD1B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729DAF5-8679-4851-8727-0DC9692E93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7C62308-B458-4D24-A9C2-939B31768E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C3EA640-8E74-4220-82F9-59FAD1CC9A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C63D57-8B25-4324-B717-AE56776A33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85B478C-5BFD-4EE8-9BEB-681799B9EB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C4236A8-E0EE-4FBA-B6FB-C8F4472581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0D3BC68-2A4E-4AE7-8C37-5C4DB0B935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88911A4A-49CD-4820-8262-A10BA8C9B7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0C1B7-8637-43BB-8E47-B85627CB7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92E7512-0180-4994-8C3E-A582153D90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BCD0680-3A35-403C-BA91-B5ECE42DDE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F60222-8057-42A4-85FD-515E1092A17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46B2E2-0958-48CD-9849-7564139E0A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470729-1364-4ECC-829C-B97BBB1688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BDCFC5-CE09-40A6-BA15-4C35ED790B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593520-1F45-4383-973A-DCF1E2552F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81EEA5-A1AD-4DDC-9F5F-23C85A75AB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026516C-8B5E-425E-B1DD-AF55CA79344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FBFA25-FA8E-4397-B45F-7E95C99CA2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064D96-5C75-4D30-80B8-19EAF68F2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5E7B83-0BE1-4AED-8F6D-969B8F79A8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490CB16-9F74-4072-9184-135C286276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8695B7-8EAA-4FE2-9CFC-5047DF92361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A926A0A-DBB6-46B6-B858-E5337A23C9D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2916021-3D96-4D1E-9F25-718840017A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8F57184-0AE0-44A3-9F46-0492680FF44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59D084A-65B5-48D7-B01F-6B42BE00532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FF3DB6-1121-4F5C-A206-51701015F0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9AC56B33-80BC-439B-8417-763776C98E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D90E1B-030A-457A-B457-70311E1706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60A9F-0311-4503-A983-B023FCBED9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3C853EF-B00A-4252-97F8-5F051700C4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7CDEAA4-0120-4C92-AD77-0E4571642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199AD51-FA19-40DF-A2D5-65A1C1486D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4DABE9E2-43C4-4947-82D1-CB8C76A194B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8627648-FB37-48D6-AAF8-1122D93A8A4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93E4F46-CE88-4A83-8057-80AEB9BA3B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7DB90C2-19BD-4EB9-846D-829146DE878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BD574A2-0DB4-4A27-B607-C6FC596E95C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8F2511-DBE0-4B92-BCB8-9557D016F1D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FFE23E-7C02-4499-B20A-285DD6611A6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2EF67-633E-47F2-A955-0DC79305C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C744CC-48F8-409A-B1BD-A5476327D2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28DC0F-E258-446E-A6C5-DDED6A8BF7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9E4972E-A087-4DBF-9BFA-FA17422755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86FC2CE-1F87-490F-9FF4-4D2D3A741C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DB5E0DD-2BAB-4FB5-A1DE-2067877DBF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12DCF1-178C-4F60-A19B-14A35391D0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DCCC90-1F30-4B6C-B4BD-F8CD00753E5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CE422-84E4-4AB4-AA44-D7B462F277D3}"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30E2F-8033-4D0D-A66B-E7C47DF5FA88}" type="slidenum">
              <a:rPr b="1" lang="en-CA"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F3F15C-ACB6-49F0-869D-3F0CB642A096}" type="slidenum">
              <a:rPr b="1" lang="en-C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3810E-744A-4CD2-A897-BCDE0AE1DBF8}"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212B4-2A53-48ED-AB52-D35803485804}"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6DB556-306F-4B32-8054-A74D6E0C5D6D}" type="slidenum">
              <a:rPr b="1" lang="en-CA"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3316-70FA-49AD-A279-E22D6A2B03CC}" type="slidenum">
              <a:rPr b="1" lang="en-CA"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AB34-E6F9-41E4-8A35-045A130D7750}" type="slidenum">
              <a:rPr b="1" lang="en-C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340000" y="2492280"/>
            <a:ext cx="6477120" cy="1828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ebddc3"/>
                </a:solidFill>
                <a:latin typeface="Tw Cen MT"/>
              </a:rPr>
              <a:t>EMPLOYMENT ONTARIO</a:t>
            </a:r>
            <a:br>
              <a:rPr sz="4000"/>
            </a:br>
            <a:r>
              <a:rPr b="1" lang="en-CA" sz="4000" spc="-1" strike="noStrike">
                <a:solidFill>
                  <a:srgbClr val="ebddc3"/>
                </a:solidFill>
                <a:latin typeface="Tw Cen MT"/>
              </a:rPr>
              <a:t>PROGRAMS AND SERVICES</a:t>
            </a:r>
            <a:endParaRPr b="0" lang="en-US" sz="4000" spc="-1" strike="noStrike">
              <a:solidFill>
                <a:srgbClr val="ebddc3"/>
              </a:solidFill>
              <a:latin typeface="Tw Cen MT"/>
            </a:endParaRPr>
          </a:p>
        </p:txBody>
      </p:sp>
      <p:sp>
        <p:nvSpPr>
          <p:cNvPr id="358" name="PlaceHolder 2"/>
          <p:cNvSpPr>
            <a:spLocks noGrp="1"/>
          </p:cNvSpPr>
          <p:nvPr>
            <p:ph type="subTitle"/>
          </p:nvPr>
        </p:nvSpPr>
        <p:spPr>
          <a:xfrm>
            <a:off x="2362320" y="6049440"/>
            <a:ext cx="6705360" cy="685800"/>
          </a:xfrm>
          <a:prstGeom prst="rect">
            <a:avLst/>
          </a:prstGeom>
          <a:noFill/>
          <a:ln w="0">
            <a:noFill/>
          </a:ln>
        </p:spPr>
        <p:txBody>
          <a:bodyPr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fffff"/>
                </a:solidFill>
                <a:latin typeface="Tw Cen MT"/>
              </a:rPr>
              <a:t>May 13, 2011</a:t>
            </a:r>
            <a:endParaRPr b="0" lang="en-US" sz="2600" spc="-1" strike="noStrike">
              <a:solidFill>
                <a:srgbClr val="ffffff"/>
              </a:solidFill>
              <a:latin typeface="Tw Cen MT"/>
            </a:endParaRPr>
          </a:p>
        </p:txBody>
      </p:sp>
    </p:spTree>
  </p:cSld>
  <p:transition spd="med">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ferral to Community Services </a:t>
            </a:r>
            <a:endParaRPr b="0" lang="en-US" sz="4400" spc="-1" strike="noStrike">
              <a:solidFill>
                <a:srgbClr val="775f55"/>
              </a:solidFill>
              <a:latin typeface="Tw Cen MT"/>
            </a:endParaRPr>
          </a:p>
        </p:txBody>
      </p:sp>
      <p:sp>
        <p:nvSpPr>
          <p:cNvPr id="376"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ferrals may be made at any point of client contac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ake or one-on-one Employment Consultant will refer based on individual assessment</a:t>
            </a:r>
            <a:endParaRPr b="0" lang="en-US" sz="32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x: Language assessment, ESL, credential assessment, housing, financial planning, counseling services, etc.</a:t>
            </a:r>
            <a:endParaRPr b="0" lang="en-US" sz="3200" spc="-1" strike="noStrike">
              <a:solidFill>
                <a:srgbClr val="000000"/>
              </a:solidFill>
              <a:latin typeface="Tw Cen MT"/>
            </a:endParaRPr>
          </a:p>
        </p:txBody>
      </p:sp>
    </p:spTree>
  </p:cSld>
  <p:transition spd="med">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a:t>
            </a:r>
            <a:endParaRPr b="0" lang="en-US" sz="4400" spc="-1" strike="noStrike">
              <a:solidFill>
                <a:srgbClr val="775f55"/>
              </a:solidFill>
              <a:latin typeface="Tw Cen MT"/>
            </a:endParaRPr>
          </a:p>
        </p:txBody>
      </p:sp>
      <p:sp>
        <p:nvSpPr>
          <p:cNvPr id="378" name=""/>
          <p:cNvSpPr txBox="1"/>
          <p:nvPr/>
        </p:nvSpPr>
        <p:spPr>
          <a:xfrm>
            <a:off x="612720" y="1600200"/>
            <a:ext cx="835200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Eligibility criteria:</a:t>
            </a:r>
            <a:endParaRPr b="0" lang="en-US" sz="3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employ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Not participating in full-time training or education</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Underemployed – working less than an average of 20 hours per week</a:t>
            </a:r>
            <a:endParaRPr b="0" lang="en-US" sz="3200" spc="-1" strike="noStrike">
              <a:solidFill>
                <a:srgbClr val="000000"/>
              </a:solidFill>
              <a:latin typeface="Tw Cen MT"/>
            </a:endParaRPr>
          </a:p>
        </p:txBody>
      </p:sp>
    </p:spTree>
  </p:cSld>
  <p:transition spd="med">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a:t>
            </a:r>
            <a:endParaRPr b="0" lang="en-US" sz="4400" spc="-1" strike="noStrike">
              <a:solidFill>
                <a:srgbClr val="775f55"/>
              </a:solidFill>
              <a:latin typeface="Tw Cen MT"/>
            </a:endParaRPr>
          </a:p>
        </p:txBody>
      </p:sp>
      <p:sp>
        <p:nvSpPr>
          <p:cNvPr id="380"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llingness to begin employ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istory of poor work retention; ineffective independent job search</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ubstantial time out of school, work or training</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ck of relevant, credible or Canadian work experience</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ducation/credentials from outside of Canada</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nguage skill level is a barrier to employment</a:t>
            </a:r>
            <a:endParaRPr b="0" lang="en-US" sz="2900" spc="-1" strike="noStrike">
              <a:solidFill>
                <a:srgbClr val="000000"/>
              </a:solidFill>
              <a:latin typeface="Tw Cen MT"/>
            </a:endParaRPr>
          </a:p>
        </p:txBody>
      </p:sp>
    </p:spTree>
  </p:cSld>
  <p:transition spd="med">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Suitability Factors cont’d…</a:t>
            </a:r>
            <a:endParaRPr b="0" lang="en-US" sz="4400" spc="-1" strike="noStrike">
              <a:solidFill>
                <a:srgbClr val="775f55"/>
              </a:solidFill>
              <a:latin typeface="Tw Cen MT"/>
            </a:endParaRPr>
          </a:p>
        </p:txBody>
      </p:sp>
      <p:sp>
        <p:nvSpPr>
          <p:cNvPr id="382"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ow level of education attai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isability</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g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ource of incom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lf-identified as Aborigin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abour market change</a:t>
            </a:r>
            <a:endParaRPr b="0" lang="en-US" sz="2900" spc="-1" strike="noStrike">
              <a:solidFill>
                <a:srgbClr val="000000"/>
              </a:solidFill>
              <a:latin typeface="Tw Cen MT"/>
            </a:endParaRPr>
          </a:p>
        </p:txBody>
      </p:sp>
    </p:spTree>
  </p:cSld>
  <p:transition spd="med">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Assisted Services / Case Management</a:t>
            </a:r>
            <a:endParaRPr b="0" lang="en-US" sz="4000" spc="-1" strike="noStrike">
              <a:solidFill>
                <a:srgbClr val="775f55"/>
              </a:solidFill>
              <a:latin typeface="Tw Cen MT"/>
            </a:endParaRPr>
          </a:p>
        </p:txBody>
      </p:sp>
      <p:sp>
        <p:nvSpPr>
          <p:cNvPr id="38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ment Service Plan is open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dividualized assistance in career clarification and goal sett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kills and interest assess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Interview and employment prepar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Realistic and accurate assessment of qualifications compared to job requirements</a:t>
            </a:r>
            <a:endParaRPr b="0" lang="en-US" sz="29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Assisted Services cont’d…</a:t>
            </a:r>
            <a:endParaRPr b="0" lang="en-US" sz="4400" spc="-1" strike="noStrike">
              <a:solidFill>
                <a:srgbClr val="775f55"/>
              </a:solidFill>
              <a:latin typeface="Tw Cen MT"/>
            </a:endParaRPr>
          </a:p>
        </p:txBody>
      </p:sp>
      <p:sp>
        <p:nvSpPr>
          <p:cNvPr id="386"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the client works with the service provider, a more in-depth analysis is undertake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dditional service needs may be identified and provided or coordinated with other service providers (referral)</a:t>
            </a:r>
            <a:endParaRPr b="0" lang="en-US" sz="2900" spc="-1" strike="noStrike">
              <a:solidFill>
                <a:srgbClr val="000000"/>
              </a:solidFill>
              <a:latin typeface="Tw Cen MT"/>
            </a:endParaRPr>
          </a:p>
        </p:txBody>
      </p:sp>
    </p:spTree>
  </p:cSld>
  <p:transition spd="med">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Search</a:t>
            </a:r>
            <a:endParaRPr b="0" lang="en-US" sz="4400" spc="-1" strike="noStrike">
              <a:solidFill>
                <a:srgbClr val="775f55"/>
              </a:solidFill>
              <a:latin typeface="Tw Cen MT"/>
            </a:endParaRPr>
          </a:p>
        </p:txBody>
      </p:sp>
      <p:sp>
        <p:nvSpPr>
          <p:cNvPr id="388" name=""/>
          <p:cNvSpPr txBox="1"/>
          <p:nvPr/>
        </p:nvSpPr>
        <p:spPr>
          <a:xfrm>
            <a:off x="612720" y="1600200"/>
            <a:ext cx="8153280" cy="4495680"/>
          </a:xfrm>
          <a:prstGeom prst="rect">
            <a:avLst/>
          </a:prstGeom>
          <a:noFill/>
          <a:ln w="0">
            <a:noFill/>
          </a:ln>
        </p:spPr>
        <p:txBody>
          <a:bodyPr anchor="t">
            <a:normAutofit fontScale="97000"/>
          </a:bodyPr>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Individualized support for conducting a successful job search</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Encompasses clarification of interests, abilities, skills, short &amp; long-term goal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Orientation to workplace: rules, employer expectations, Canadian workplace culture</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Rights and responsibilities of employe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Preparation of tools – resume, applications, strategies</a:t>
            </a:r>
            <a:endParaRPr b="0" lang="en-US" sz="2700" spc="-1" strike="noStrike">
              <a:solidFill>
                <a:srgbClr val="000000"/>
              </a:solidFill>
              <a:latin typeface="Tw Cen MT"/>
            </a:endParaRPr>
          </a:p>
          <a:p>
            <a:pPr marL="309240" indent="-30924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Information about access to language, credential assessment</a:t>
            </a:r>
            <a:endParaRPr b="0" lang="en-US" sz="2700" spc="-1" strike="noStrike">
              <a:solidFill>
                <a:srgbClr val="000000"/>
              </a:solidFill>
              <a:latin typeface="Tw Cen MT"/>
            </a:endParaRPr>
          </a:p>
        </p:txBody>
      </p:sp>
    </p:spTree>
  </p:cSld>
  <p:transition spd="med">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Provides matching and placement services to clients who are unlikely to succeed in conducting their own job search, even with support, because of barriers to employment</a:t>
            </a:r>
            <a:endParaRPr b="0" lang="en-US" sz="3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w Cen MT"/>
            </a:endParaRPr>
          </a:p>
        </p:txBody>
      </p:sp>
    </p:spTree>
  </p:cSld>
  <p:transition spd="med">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2" name=""/>
          <p:cNvSpPr txBox="1"/>
          <p:nvPr/>
        </p:nvSpPr>
        <p:spPr>
          <a:xfrm>
            <a:off x="612720" y="1600200"/>
            <a:ext cx="8153280" cy="449568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to match client skills and interests with work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Help in facilitation of work opportunities and negotiation of the employment relationship on their behalf</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xperiential or on-the-job training opportuniti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support – identify and resolve issues</a:t>
            </a:r>
            <a:endParaRPr b="0" lang="en-US" sz="29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nancial supports to help remove barriers</a:t>
            </a:r>
            <a:endParaRPr b="0" lang="en-US" sz="2900" spc="-1" strike="noStrike">
              <a:solidFill>
                <a:srgbClr val="000000"/>
              </a:solidFill>
              <a:latin typeface="Tw Cen MT"/>
            </a:endParaRPr>
          </a:p>
        </p:txBody>
      </p:sp>
    </p:spTree>
  </p:cSld>
  <p:transition spd="med">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4"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Job development – proactive outreach to employers to identify opportuniti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Employer support in identifying skills required and capabilities neede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nsitivity/diversity training, workplace accommodation</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tching employer skill needs and participant capabilities and interests</a:t>
            </a:r>
            <a:endParaRPr b="0" lang="en-US" sz="2900" spc="-1" strike="noStrike">
              <a:solidFill>
                <a:srgbClr val="000000"/>
              </a:solidFill>
              <a:latin typeface="Tw Cen MT"/>
            </a:endParaRPr>
          </a:p>
        </p:txBody>
      </p:sp>
    </p:spTree>
  </p:cSld>
  <p:transition spd="med">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Objectives</a:t>
            </a:r>
            <a:endParaRPr b="0" lang="en-US" sz="4400" spc="-1" strike="noStrike">
              <a:solidFill>
                <a:srgbClr val="775f55"/>
              </a:solidFill>
              <a:latin typeface="Tw Cen MT"/>
            </a:endParaRPr>
          </a:p>
        </p:txBody>
      </p:sp>
      <p:sp>
        <p:nvSpPr>
          <p:cNvPr id="360"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ovide an overview of the components of the Employment Ontari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arify how your clients can access services (referral)</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ake a closer look at each component of EO Employment Services</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nswer any questions that you may have</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Job Matching, Placement &amp; Incentives</a:t>
            </a:r>
            <a:endParaRPr b="0" lang="en-US" sz="4000" spc="-1" strike="noStrike">
              <a:solidFill>
                <a:srgbClr val="775f55"/>
              </a:solidFill>
              <a:latin typeface="Tw Cen MT"/>
            </a:endParaRPr>
          </a:p>
        </p:txBody>
      </p:sp>
      <p:sp>
        <p:nvSpPr>
          <p:cNvPr id="396" name=""/>
          <p:cNvSpPr txBox="1"/>
          <p:nvPr/>
        </p:nvSpPr>
        <p:spPr>
          <a:xfrm>
            <a:off x="612720" y="1600200"/>
            <a:ext cx="8153280" cy="4495680"/>
          </a:xfrm>
          <a:prstGeom prst="rect">
            <a:avLst/>
          </a:prstGeom>
          <a:noFill/>
          <a:ln w="0">
            <a:noFill/>
          </a:ln>
        </p:spPr>
        <p:txBody>
          <a:bodyPr anchor="t">
            <a:normAutofit fontScale="92000"/>
          </a:bodyPr>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lacement opportunities with or without incentives, volunteer placement, job trial and on-the-job training opportuniti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training plan and agreement, includes negotiation of financial incentive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placement and agreement to support success</a:t>
            </a:r>
            <a:endParaRPr b="0" lang="en-US" sz="29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 participants with mentors and coaches to provide support during and after placement</a:t>
            </a:r>
            <a:endParaRPr b="0" lang="en-US" sz="2900" spc="-1" strike="noStrike">
              <a:solidFill>
                <a:srgbClr val="000000"/>
              </a:solidFill>
              <a:latin typeface="Tw Cen MT"/>
            </a:endParaRPr>
          </a:p>
        </p:txBody>
      </p:sp>
    </p:spTree>
  </p:cSld>
  <p:transition spd="med">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mployment and Training Supports</a:t>
            </a:r>
            <a:endParaRPr b="0" lang="en-US" sz="4400" spc="-1" strike="noStrike">
              <a:solidFill>
                <a:srgbClr val="775f55"/>
              </a:solidFill>
              <a:latin typeface="Tw Cen MT"/>
            </a:endParaRPr>
          </a:p>
        </p:txBody>
      </p:sp>
      <p:sp>
        <p:nvSpPr>
          <p:cNvPr id="39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vailable on a temporary basis to address financial barriers to participation in Employment Services for assisted clients</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Special equipment, supplies (e.g. safety boot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ransportation</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Work clothing/grooming needs to achieve credibility</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ertification charges</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As determined based on need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0"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ents expect that their experience in the Employment Service will lead them on a path to sustained employment</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amp; follow-up</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ere may be a need for additional coaching / mentoring to maintain employment or complete training</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Development of a support plan with the client and mentor</a:t>
            </a:r>
            <a:endParaRPr b="0" lang="en-US" sz="2900" spc="-1" strike="noStrike">
              <a:solidFill>
                <a:srgbClr val="000000"/>
              </a:solidFill>
              <a:latin typeface="Tw Cen MT"/>
            </a:endParaRPr>
          </a:p>
        </p:txBody>
      </p:sp>
    </p:spTree>
  </p:cSld>
  <p:transition spd="med">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Job / Training Retention</a:t>
            </a:r>
            <a:endParaRPr b="0" lang="en-US" sz="4400" spc="-1" strike="noStrike">
              <a:solidFill>
                <a:srgbClr val="775f55"/>
              </a:solidFill>
              <a:latin typeface="Tw Cen MT"/>
            </a:endParaRPr>
          </a:p>
        </p:txBody>
      </p:sp>
      <p:sp>
        <p:nvSpPr>
          <p:cNvPr id="402" name=""/>
          <p:cNvSpPr txBox="1"/>
          <p:nvPr/>
        </p:nvSpPr>
        <p:spPr>
          <a:xfrm>
            <a:off x="612720" y="1600200"/>
            <a:ext cx="8153280" cy="4495680"/>
          </a:xfrm>
          <a:prstGeom prst="rect">
            <a:avLst/>
          </a:prstGeom>
          <a:noFill/>
          <a:ln w="0">
            <a:noFill/>
          </a:ln>
        </p:spPr>
        <p:txBody>
          <a:bodyPr anchor="t">
            <a:normAutofit fontScale="91000"/>
          </a:bodyPr>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Linking participants with mentors and coaches to provide support during and after job placement</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onitoring of the mentor/coach relationship with clients and its impact on workplace success</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ake adjustments as required</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llow-up occurs continuously</a:t>
            </a:r>
            <a:endParaRPr b="0" lang="en-US" sz="2900" spc="-1" strike="noStrike">
              <a:solidFill>
                <a:srgbClr val="000000"/>
              </a:solidFill>
              <a:latin typeface="Tw Cen MT"/>
            </a:endParaRPr>
          </a:p>
          <a:p>
            <a:pPr marL="290160" indent="-2901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With placement – positive 3 month follow-up – goal of sustainable employment reached - exit </a:t>
            </a:r>
            <a:endParaRPr b="0" lang="en-US" sz="2900" spc="-1" strike="noStrike">
              <a:solidFill>
                <a:srgbClr val="000000"/>
              </a:solidFill>
              <a:latin typeface="Tw Cen MT"/>
            </a:endParaRPr>
          </a:p>
        </p:txBody>
      </p:sp>
    </p:spTree>
  </p:cSld>
  <p:transition spd="med">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4" name=""/>
          <p:cNvSpPr txBox="1"/>
          <p:nvPr/>
        </p:nvSpPr>
        <p:spPr>
          <a:xfrm>
            <a:off x="612720" y="1600200"/>
            <a:ext cx="8153280" cy="4495680"/>
          </a:xfrm>
          <a:prstGeom prst="rect">
            <a:avLst/>
          </a:prstGeom>
          <a:noFill/>
          <a:ln w="0">
            <a:noFill/>
          </a:ln>
        </p:spPr>
        <p:txBody>
          <a:bodyPr anchor="t">
            <a:normAutofit fontScale="90000"/>
          </a:bodyPr>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laid-off workers with:</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skills training to help them find jobs in high-demand occupations in Ontario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inancial suppor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provides up to $28,000 for:</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ui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other instruction costs such as manuals or workbooks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ransportation </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 basic living allowance </a:t>
            </a:r>
            <a:endParaRPr b="0" lang="en-US" sz="18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Second Career is a</a:t>
            </a:r>
            <a:r>
              <a:rPr b="0" lang="en-CA" sz="1800" spc="-1" strike="noStrike">
                <a:solidFill>
                  <a:srgbClr val="000000"/>
                </a:solidFill>
                <a:latin typeface="Tw Cen MT"/>
              </a:rPr>
              <a:t> </a:t>
            </a:r>
            <a:r>
              <a:rPr b="1" lang="en-CA" sz="1800" spc="-1" strike="noStrike">
                <a:solidFill>
                  <a:srgbClr val="000000"/>
                </a:solidFill>
                <a:latin typeface="Tw Cen MT"/>
              </a:rPr>
              <a:t>cost-sharing grant</a:t>
            </a:r>
            <a:r>
              <a:rPr b="0" lang="en-CA" sz="1800" spc="-1" strike="noStrike">
                <a:solidFill>
                  <a:srgbClr val="000000"/>
                </a:solidFill>
                <a:latin typeface="Tw Cen MT"/>
              </a:rPr>
              <a:t> provided on the basis of need, so you may be asked to contribute what you can to your training or education.</a:t>
            </a: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dditional support may be available to accommodate the needs of people with disabilities, dependent care, costs of living away from home and academic upgrading.</a:t>
            </a:r>
            <a:endParaRPr b="0" lang="en-US" sz="1800" spc="-1" strike="noStrike">
              <a:solidFill>
                <a:srgbClr val="000000"/>
              </a:solidFill>
              <a:latin typeface="Tw Cen MT"/>
            </a:endParaRPr>
          </a:p>
        </p:txBody>
      </p:sp>
    </p:spTree>
  </p:cSld>
  <p:transition spd="med">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775f55"/>
                </a:solidFill>
                <a:latin typeface="Tw Cen MT"/>
              </a:rPr>
              <a:t>Second Career</a:t>
            </a:r>
            <a:endParaRPr b="0" lang="en-US" sz="4400" spc="-1" strike="noStrike">
              <a:solidFill>
                <a:srgbClr val="775f55"/>
              </a:solidFill>
              <a:latin typeface="Tw Cen MT"/>
            </a:endParaRPr>
          </a:p>
        </p:txBody>
      </p:sp>
      <p:sp>
        <p:nvSpPr>
          <p:cNvPr id="406" name=""/>
          <p:cNvSpPr txBox="1"/>
          <p:nvPr/>
        </p:nvSpPr>
        <p:spPr>
          <a:xfrm>
            <a:off x="684000" y="1267920"/>
            <a:ext cx="7869240" cy="5977080"/>
          </a:xfrm>
          <a:prstGeom prst="rect">
            <a:avLst/>
          </a:prstGeom>
          <a:noFill/>
          <a:ln w="0">
            <a:noFill/>
          </a:ln>
        </p:spPr>
        <p:txBody>
          <a:bodyPr anchor="t">
            <a:normAutofit/>
          </a:bodyPr>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Individuals may be eligible for Second Career if they are:</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laid off or have been laid off since January 2005.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unemployed or working an interim job.</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re choosing to retrain for a career that is in demand.</a:t>
            </a: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Second Career provides help to laid-off workers in need who will benefit most from training to find work. Several factors are considered when figuring out who will receive funding.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Active job search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ength of unemploymen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ducation background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Work history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Labour market prospects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raining request </a:t>
            </a:r>
            <a:endParaRPr b="0" lang="en-US" sz="20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Experience and occupational skills </a:t>
            </a:r>
            <a:endParaRPr b="0" lang="en-US" sz="2000" spc="-1" strike="noStrike">
              <a:solidFill>
                <a:srgbClr val="000000"/>
              </a:solidFill>
              <a:latin typeface="Tw Cen MT"/>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w Cen MT"/>
              </a:rPr>
              <a:t>Apprenticeship Programs</a:t>
            </a:r>
            <a:endParaRPr b="0" lang="en-US" sz="4400" spc="-1" strike="noStrike">
              <a:solidFill>
                <a:srgbClr val="775f55"/>
              </a:solidFill>
              <a:latin typeface="Tw Cen MT"/>
            </a:endParaRPr>
          </a:p>
        </p:txBody>
      </p:sp>
      <p:sp>
        <p:nvSpPr>
          <p:cNvPr id="408" name=""/>
          <p:cNvSpPr txBox="1"/>
          <p:nvPr/>
        </p:nvSpPr>
        <p:spPr>
          <a:xfrm>
            <a:off x="468360" y="1483920"/>
            <a:ext cx="8229600" cy="537372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is a combination of on-the-job and in-school training for employment in a skilled trade. On average, 90 per cent of training takes place in the workplace with instruction by certified journeypersons. The remainder involves classroom instruction delivered at a college of applied arts and technology</a:t>
            </a:r>
            <a:r>
              <a:rPr b="1" lang="en-CA" sz="1800" spc="-1" strike="noStrike">
                <a:solidFill>
                  <a:srgbClr val="000000"/>
                </a:solidFill>
                <a:latin typeface="Tw Cen MT"/>
              </a:rPr>
              <a:t> </a:t>
            </a:r>
            <a:r>
              <a:rPr b="0" lang="en-CA" sz="1800" spc="-1" strike="noStrike">
                <a:solidFill>
                  <a:srgbClr val="000000"/>
                </a:solidFill>
                <a:latin typeface="Tw Cen MT"/>
              </a:rPr>
              <a:t>or other approved training delivery agent.</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re are more than 150 apprenticeship trades in four sectors: construction, industrial/manufacturing, motive power and service.</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In Ontario, there are more than 120,000 apprentices learning a trade, which usually takes two to five years to complete both in-school training and on-the-job training to become a certified journeyperson. </a:t>
            </a: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Both EI and non-EI apprentices may be eligible for financial supports for in-school training and completion incentives from governments.</a:t>
            </a:r>
            <a:endParaRPr b="0" lang="en-US" sz="1800" spc="-1" strike="noStrike">
              <a:solidFill>
                <a:srgbClr val="000000"/>
              </a:solidFill>
              <a:latin typeface="Tw Cen MT"/>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Apprenticeship programs are offered by different organizations, such as colleges and approved apprenticeship training deliverers. Individuals can find out local program offerings through Employment Ontario Hotline: 1-800-387-5656.</a:t>
            </a:r>
            <a:endParaRPr b="0" lang="en-US" sz="1800" spc="-1" strike="noStrike">
              <a:solidFill>
                <a:srgbClr val="000000"/>
              </a:solidFill>
              <a:latin typeface="Tw Cen MT"/>
            </a:endParaRPr>
          </a:p>
        </p:txBody>
      </p:sp>
    </p:spTree>
  </p:cSld>
  <p:transition spd="med">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775f55"/>
                </a:solidFill>
                <a:latin typeface="Tw Cen MT"/>
              </a:rPr>
              <a:t>Apprenticeship Scholarship (AS)</a:t>
            </a:r>
            <a:endParaRPr b="0" lang="en-US" sz="40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terest in the skilled trades</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Must be committed to meeting the necessary academic requirements for the chosen program within one yea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when registered for upgrading</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500 awarded upon confirmation of successful completio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Apprenticeship Employer Signing Bonus (AESB)</a:t>
            </a:r>
            <a:endParaRPr b="0" lang="en-US" sz="36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a:bodyPr>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Employer must commit to a relevant apprenticeship training plan</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Initial payment of $1000 when the training agreement is signed</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Tw Cen MT"/>
              </a:rPr>
              <a:t>Final payment of $1000 six months from the signing date if apprentice is still working and training with the same employer</a:t>
            </a:r>
            <a:endParaRPr b="0" lang="en-US" sz="32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775f55"/>
                </a:solidFill>
                <a:latin typeface="Tw Cen MT"/>
              </a:rPr>
              <a:t>Pre-Apprenticeship Training Program</a:t>
            </a:r>
            <a:endParaRPr b="0" lang="en-US" sz="3600" spc="-1" strike="noStrike">
              <a:solidFill>
                <a:srgbClr val="775f55"/>
              </a:solidFill>
              <a:latin typeface="Tw Cen MT"/>
            </a:endParaRPr>
          </a:p>
        </p:txBody>
      </p:sp>
      <p:sp>
        <p:nvSpPr>
          <p:cNvPr id="414" name=""/>
          <p:cNvSpPr txBox="1"/>
          <p:nvPr/>
        </p:nvSpPr>
        <p:spPr>
          <a:xfrm>
            <a:off x="612720" y="1599840"/>
            <a:ext cx="8153280" cy="5257800"/>
          </a:xfrm>
          <a:prstGeom prst="rect">
            <a:avLst/>
          </a:prstGeom>
          <a:noFill/>
          <a:ln w="0">
            <a:noFill/>
          </a:ln>
        </p:spPr>
        <p:txBody>
          <a:bodyPr anchor="t">
            <a:normAutofit fontScale="95000"/>
          </a:bodyPr>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 Pre-Apprenticeship Training Program helps potential entrants to the apprenticeship system develop their job skills and trade readiness so that they will be prepared to find work as apprentices.</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Programs are up to 40 weeks in duration and include the Level 1 apprenticeship in-school training, relevant safety training and a minimum 8-week work placement. Programs may also include trade readiness, employment preparation and academic upgrading.</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w Cen MT"/>
              </a:rPr>
              <a:t>There is no cost to participate in a pre-apprenticeship program, and costs for text books, safety equipment and tools are included. </a:t>
            </a: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Pre-Apprenticeship Training Program is open to a wide range of clients including:</a:t>
            </a:r>
            <a:endParaRPr b="0" lang="en-US" sz="18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High School graduates /Early school leaver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Unemployed/underemployed youth and adult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EI/Non-EI Eligible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Aboriginal peoples </a:t>
            </a:r>
            <a:endParaRPr b="0" lang="en-US" sz="1200" spc="-1" strike="noStrike">
              <a:solidFill>
                <a:srgbClr val="000000"/>
              </a:solidFill>
              <a:latin typeface="Tw Cen MT"/>
            </a:endParaRPr>
          </a:p>
          <a:p>
            <a:pPr lvl="2" marL="868680" indent="-21708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w Cen MT"/>
              </a:rPr>
              <a:t>Newcomers to Canada </a:t>
            </a:r>
            <a:endParaRPr b="0" lang="en-US" sz="12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Note: Certain eligibility criteria may apply to specific programs</a:t>
            </a:r>
            <a:r>
              <a:rPr b="0" lang="en-CA" sz="2000" spc="-1" strike="noStrike">
                <a:solidFill>
                  <a:srgbClr val="000000"/>
                </a:solidFill>
                <a:latin typeface="Tw Cen MT"/>
              </a:rPr>
              <a:t>.</a:t>
            </a:r>
            <a:endParaRPr b="0" lang="en-US" sz="2000" spc="-1" strike="noStrike">
              <a:solidFill>
                <a:srgbClr val="000000"/>
              </a:solidFill>
              <a:latin typeface="Tw Cen MT"/>
            </a:endParaRPr>
          </a:p>
          <a:p>
            <a:pPr lvl="1" marL="607680" indent="-25920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02760" indent="-30276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w Cen MT"/>
              </a:rPr>
              <a:t>EMPLOYMENT ONTARIO</a:t>
            </a:r>
            <a:endParaRPr b="0" lang="en-US" sz="3600" spc="-1" strike="noStrike">
              <a:solidFill>
                <a:srgbClr val="775f55"/>
              </a:solidFill>
              <a:latin typeface="Tw Cen MT"/>
            </a:endParaRPr>
          </a:p>
        </p:txBody>
      </p:sp>
      <p:sp>
        <p:nvSpPr>
          <p:cNvPr id="362" name=""/>
          <p:cNvSpPr txBox="1"/>
          <p:nvPr/>
        </p:nvSpPr>
        <p:spPr>
          <a:xfrm>
            <a:off x="611280" y="1773000"/>
            <a:ext cx="8013600" cy="4020840"/>
          </a:xfrm>
          <a:prstGeom prst="rect">
            <a:avLst/>
          </a:prstGeom>
          <a:noFill/>
          <a:ln w="0">
            <a:noFill/>
          </a:ln>
        </p:spPr>
        <p:txBody>
          <a:bodyPr anchor="t">
            <a:normAutofit fontScale="90000"/>
          </a:bodyPr>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helps Ontarians find work </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Employment Ontario</a:t>
            </a:r>
            <a:r>
              <a:rPr b="0" lang="en-CA" sz="2400" spc="-1" strike="noStrike">
                <a:solidFill>
                  <a:srgbClr val="000000"/>
                </a:solidFill>
                <a:latin typeface="Tw Cen MT"/>
              </a:rPr>
              <a:t> provide personalized advice and services to help people assess their skills and experience, find work and start on the path to skills training</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Get the skills to succeed:</a:t>
            </a:r>
            <a:r>
              <a:rPr b="0" lang="en-CA" sz="2400" spc="-1" strike="noStrike">
                <a:solidFill>
                  <a:srgbClr val="000000"/>
                </a:solidFill>
                <a:latin typeface="Tw Cen MT"/>
              </a:rPr>
              <a:t>  Talk to a professional counsellor and get the help you need to plan your career, get training, and find a job through the Employment Services program</a:t>
            </a: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w Cen MT"/>
              </a:rPr>
              <a:t>Find jobs:</a:t>
            </a:r>
            <a:r>
              <a:rPr b="0" lang="en-CA" sz="2400" spc="-1" strike="noStrike">
                <a:solidFill>
                  <a:srgbClr val="000000"/>
                </a:solidFill>
                <a:latin typeface="Tw Cen MT"/>
              </a:rPr>
              <a:t> Where and how to seek employment opportunities</a:t>
            </a:r>
            <a:endParaRPr b="0" lang="en-US" sz="2400" spc="-1" strike="noStrike">
              <a:solidFill>
                <a:srgbClr val="000000"/>
              </a:solidFill>
              <a:latin typeface="Tw Cen MT"/>
            </a:endParaRPr>
          </a:p>
          <a:p>
            <a:pPr marL="286920" indent="-2869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transition spd="med">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68360" y="115920"/>
            <a:ext cx="8229600" cy="1009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775f55"/>
                </a:solidFill>
                <a:latin typeface="Tw Cen MT"/>
              </a:rPr>
              <a:t>LITERACY AND BASIC SKILLS/ </a:t>
            </a:r>
            <a:br>
              <a:rPr sz="2400"/>
            </a:br>
            <a:r>
              <a:rPr b="1" lang="en-CA" sz="2400" spc="-1" strike="noStrike">
                <a:solidFill>
                  <a:srgbClr val="775f55"/>
                </a:solidFill>
                <a:latin typeface="Tw Cen MT"/>
              </a:rPr>
              <a:t>ACADEMIC UPGRADING</a:t>
            </a:r>
            <a:endParaRPr b="0" lang="en-US" sz="2400" spc="-1" strike="noStrike">
              <a:solidFill>
                <a:srgbClr val="775f55"/>
              </a:solidFill>
              <a:latin typeface="Tw Cen MT"/>
            </a:endParaRPr>
          </a:p>
        </p:txBody>
      </p:sp>
      <p:sp>
        <p:nvSpPr>
          <p:cNvPr id="416" name=""/>
          <p:cNvSpPr txBox="1"/>
          <p:nvPr/>
        </p:nvSpPr>
        <p:spPr>
          <a:xfrm>
            <a:off x="250920" y="1125360"/>
            <a:ext cx="8642160" cy="5732640"/>
          </a:xfrm>
          <a:prstGeom prst="rect">
            <a:avLst/>
          </a:prstGeom>
          <a:noFill/>
          <a:ln w="0">
            <a:noFill/>
          </a:ln>
        </p:spPr>
        <p:txBody>
          <a:bodyPr anchor="t">
            <a:normAutofit fontScale="94000"/>
          </a:bodyPr>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w Cen MT"/>
              </a:rPr>
              <a:t>	</a:t>
            </a: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Ontario government’s Literacy and Basic Skills (LBS) Program provides literacy, numeracy, and essential skills services. </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at Services Are Availabl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which includes in academic upgrading, are provided at No Cost to learners to improve Reading, Writing, Numeracy and Essential Skills, below the Grade 12 level. These services are offered through Local School Boards, Community based agencies, and College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also provides Academic Upgrading services to help learners get the skills they need for entry into Post-Secondary Education and Apprenticeship Training.</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Employment Ontario can help you set upgrading goals and develop a training pla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lexible training options that fit your busy schedule are available through one-on-one tutoring, small-group instruction, or classroom instruction.</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For those who want to learn how to use a computer, technology skills can be incorporated in the training plan.</a:t>
            </a:r>
            <a:endParaRPr b="0" lang="en-US" sz="18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Tw Cen MT"/>
              </a:rPr>
              <a:t>Who Can Participate? </a:t>
            </a:r>
            <a:endParaRPr b="0" lang="en-US" sz="2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The LBS Program is available to anyone who is out of school and communicates in English or French.  </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w Cen MT"/>
              </a:rPr>
              <a:t>LBS services support programming for Anglophone, Francophone, Deaf, and Aboriginal learners.</a:t>
            </a:r>
            <a:endParaRPr b="0" lang="en-US" sz="1800" spc="-1" strike="noStrike">
              <a:solidFill>
                <a:srgbClr val="000000"/>
              </a:solidFill>
              <a:latin typeface="Tw Cen MT"/>
            </a:endParaRPr>
          </a:p>
          <a:p>
            <a:pPr marL="299520" indent="-299520">
              <a:lnSpc>
                <a:spcPct val="7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a:p>
            <a:pPr marL="299520" indent="-29952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w Cen MT"/>
            </a:endParaRPr>
          </a:p>
        </p:txBody>
      </p:sp>
    </p:spTree>
  </p:cSld>
  <p:transition spd="med">
    <p:fade thruBlk="tru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775f55"/>
                </a:solidFill>
                <a:latin typeface="Tw Cen MT"/>
              </a:rPr>
              <a:t>The Targeted Initiative for Older Workers</a:t>
            </a:r>
            <a:br>
              <a:rPr sz="2800"/>
            </a:br>
            <a:r>
              <a:rPr b="1" lang="en-CA" sz="2800" spc="-1" strike="noStrike">
                <a:solidFill>
                  <a:srgbClr val="775f55"/>
                </a:solidFill>
                <a:latin typeface="Tw Cen MT"/>
              </a:rPr>
              <a:t>(TIOW)</a:t>
            </a:r>
            <a:endParaRPr b="0" lang="en-US" sz="2800" spc="-1" strike="noStrike">
              <a:solidFill>
                <a:srgbClr val="775f55"/>
              </a:solidFill>
              <a:latin typeface="Tw Cen MT"/>
            </a:endParaRPr>
          </a:p>
        </p:txBody>
      </p:sp>
      <p:sp>
        <p:nvSpPr>
          <p:cNvPr id="418" name=""/>
          <p:cNvSpPr txBox="1"/>
          <p:nvPr/>
        </p:nvSpPr>
        <p:spPr>
          <a:xfrm>
            <a:off x="612720" y="1600200"/>
            <a:ext cx="8153280" cy="4495680"/>
          </a:xfrm>
          <a:prstGeom prst="rect">
            <a:avLst/>
          </a:prstGeom>
          <a:noFill/>
          <a:ln w="0">
            <a:noFill/>
          </a:ln>
        </p:spPr>
        <p:txBody>
          <a:bodyPr anchor="t">
            <a:normAutofit fontScale="99000"/>
          </a:bodyPr>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at is TIOW?</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Targeted Initiative for Older Workers (TIOW) is a federal-provincial-territorial cost-shared employment program created to provide a range of employment activities for older workers who live in vulnerable communities and who have lost their jobs. These activities include skills upgrading and work experience in new jobs to help them stay in the work force. </a:t>
            </a:r>
            <a:br>
              <a:rPr sz="1600"/>
            </a:br>
            <a:r>
              <a:rPr b="0" lang="en-CA" sz="1600" spc="-1" strike="noStrike">
                <a:solidFill>
                  <a:srgbClr val="000000"/>
                </a:solidFill>
                <a:latin typeface="Tw Cen MT"/>
              </a:rPr>
              <a:t>The TIOW will target communities experiencing ongoing high unemployment and/or a high reliance on a single employer or industry (i.e. 20 per cent of the labour force) affected by downsizing or a closure or closures. </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Projects will include activities such as skills assessment, counselling, skills upgrading and work experience for new jobs. Contribution agreements will establish the roles and responsibilities and eligibility parameters for the program</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u="sng">
                <a:solidFill>
                  <a:srgbClr val="000000"/>
                </a:solidFill>
                <a:uFillTx/>
                <a:latin typeface="Tw Cen MT"/>
              </a:rPr>
              <a:t>Who does this program apply  to:</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The program will apply to older workers aged 55 to 64 who have lost their jobs;</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are legally entitled to work in Canada;</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ack skills needed for successful integration into new employment; and</a:t>
            </a: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Tw Cen MT"/>
              </a:rPr>
              <a:t>live in an eligible community. </a:t>
            </a:r>
            <a:endParaRPr b="0" lang="en-US" sz="1600" spc="-1" strike="noStrike">
              <a:solidFill>
                <a:srgbClr val="000000"/>
              </a:solidFill>
              <a:latin typeface="Tw Cen MT"/>
            </a:endParaRPr>
          </a:p>
          <a:p>
            <a:pPr marL="315720" indent="-315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a:p>
            <a:pPr marL="315720" indent="-3157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w Cen MT"/>
            </a:endParaRPr>
          </a:p>
        </p:txBody>
      </p:sp>
    </p:spTree>
  </p:cSld>
  <p:transition spd="med">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Other Employment Ontario Services in Your Community</a:t>
            </a:r>
            <a:endParaRPr b="0" lang="en-US" sz="3600" spc="-1" strike="noStrike">
              <a:solidFill>
                <a:srgbClr val="775f55"/>
              </a:solidFill>
              <a:latin typeface="Tw Cen MT"/>
            </a:endParaRPr>
          </a:p>
        </p:txBody>
      </p:sp>
      <p:sp>
        <p:nvSpPr>
          <p:cNvPr id="420" name=""/>
          <p:cNvSpPr txBox="1"/>
          <p:nvPr/>
        </p:nvSpPr>
        <p:spPr>
          <a:xfrm>
            <a:off x="612720" y="1600200"/>
            <a:ext cx="8153280" cy="4495680"/>
          </a:xfrm>
          <a:prstGeom prst="rect">
            <a:avLst/>
          </a:prstGeom>
          <a:noFill/>
          <a:ln w="0">
            <a:noFill/>
          </a:ln>
        </p:spPr>
        <p:txBody>
          <a:bodyPr anchor="t">
            <a:normAutofit/>
          </a:bodyPr>
          <a:p>
            <a:pPr marL="318960" indent="-318960">
              <a:spcBef>
                <a:spcPts val="29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Job Creation Partnerships:  </a:t>
            </a:r>
            <a:r>
              <a:rPr b="0" lang="en-CA" sz="1800" spc="-1" strike="noStrike">
                <a:solidFill>
                  <a:srgbClr val="000000"/>
                </a:solidFill>
                <a:latin typeface="Tw Cen MT"/>
              </a:rPr>
              <a:t>is an employment program that provides work experience to unemployed job seekers within projects that benefit the community or local economy. </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Tw Cen MT"/>
              </a:rPr>
              <a:t>Ontario Self-Employment Benefit:  </a:t>
            </a:r>
            <a:r>
              <a:rPr b="0" lang="en-CA" sz="1800" spc="-1" strike="noStrike">
                <a:solidFill>
                  <a:srgbClr val="000000"/>
                </a:solidFill>
                <a:latin typeface="Tw Cen MT"/>
              </a:rPr>
              <a:t>This provides unemployed people who are or have recently been eligible for Employment Insurance with income and entrepreneurial support while they develop and start their business</a:t>
            </a: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18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w Cen MT"/>
            </a:endParaRPr>
          </a:p>
        </p:txBody>
      </p:sp>
    </p:spTree>
  </p:cSld>
  <p:transition spd="med">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1371600" y="2743200"/>
            <a:ext cx="7122960" cy="1673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775f55"/>
              </a:solidFill>
              <a:latin typeface="Tw Cen MT"/>
            </a:endParaRPr>
          </a:p>
        </p:txBody>
      </p:sp>
      <p:sp>
        <p:nvSpPr>
          <p:cNvPr id="422"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Questions?</a:t>
            </a:r>
            <a:endParaRPr b="0" lang="en-US" sz="5400" spc="-1" strike="noStrike">
              <a:solidFill>
                <a:srgbClr val="775f55"/>
              </a:solidFill>
              <a:latin typeface="Tw Cen MT"/>
            </a:endParaRPr>
          </a:p>
        </p:txBody>
      </p:sp>
    </p:spTree>
  </p:cSld>
  <p:transition spd="med">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p:nvPr>
        </p:nvSpPr>
        <p:spPr>
          <a:xfrm>
            <a:off x="395280" y="2743200"/>
            <a:ext cx="8099280" cy="16732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75f55"/>
                </a:solidFill>
                <a:latin typeface="Tw Cen MT"/>
              </a:rPr>
              <a:t>www.edu.gov.on.ca/eng/tcu/employmentontario/</a:t>
            </a:r>
            <a:endParaRPr b="0" lang="en-US" sz="2800" spc="-1" strike="noStrike">
              <a:solidFill>
                <a:srgbClr val="000000"/>
              </a:solidFill>
              <a:latin typeface="Tw Cen MT"/>
            </a:endParaRPr>
          </a:p>
        </p:txBody>
      </p:sp>
      <p:sp>
        <p:nvSpPr>
          <p:cNvPr id="424" name="PlaceHolder 2"/>
          <p:cNvSpPr>
            <a:spLocks noGrp="1"/>
          </p:cNvSpPr>
          <p:nvPr>
            <p:ph type="title"/>
          </p:nvPr>
        </p:nvSpPr>
        <p:spPr>
          <a:xfrm>
            <a:off x="1371240" y="1600200"/>
            <a:ext cx="762012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w Cen MT"/>
              </a:rPr>
              <a:t>Thank You!</a:t>
            </a:r>
            <a:endParaRPr b="0" lang="en-US" sz="5400" spc="-1" strike="noStrike">
              <a:solidFill>
                <a:srgbClr val="775f55"/>
              </a:solidFill>
              <a:latin typeface="Tw Cen MT"/>
            </a:endParaRPr>
          </a:p>
        </p:txBody>
      </p:sp>
    </p:spTree>
  </p:cSld>
  <p:transition spd="med">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775f55"/>
                </a:solidFill>
                <a:latin typeface="Tw Cen MT"/>
              </a:rPr>
              <a:t>Employment Services</a:t>
            </a:r>
            <a:endParaRPr b="0" lang="en-US" sz="4400" spc="-1" strike="noStrike">
              <a:solidFill>
                <a:srgbClr val="775f55"/>
              </a:solidFill>
              <a:latin typeface="Tw Cen MT"/>
            </a:endParaRPr>
          </a:p>
        </p:txBody>
      </p:sp>
      <p:sp>
        <p:nvSpPr>
          <p:cNvPr id="364" name=""/>
          <p:cNvSpPr txBox="1"/>
          <p:nvPr/>
        </p:nvSpPr>
        <p:spPr>
          <a:xfrm>
            <a:off x="612720" y="1600200"/>
            <a:ext cx="8153280" cy="4495680"/>
          </a:xfrm>
          <a:prstGeom prst="rect">
            <a:avLst/>
          </a:prstGeom>
          <a:noFill/>
          <a:ln w="0">
            <a:noFill/>
          </a:ln>
        </p:spPr>
        <p:txBody>
          <a:bodyPr anchor="t">
            <a:normAutofit fontScale="94000"/>
          </a:bodyPr>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of community service providers deliver employment services to individuals who require assistance in obtaining and sustaining employment.  All services are provided in a single point of service within all communities in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The Employment Ontario network is comprised of 174 Employment Service providers at 434 sites throughout Ontario.</a:t>
            </a: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99520" indent="-29952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w Cen MT"/>
              </a:rPr>
              <a:t>Clients are able to access job search, placement and incentives, job retention instruction, information and referral services and service planning and co-ordination from a single point of service.</a:t>
            </a:r>
            <a:endParaRPr b="0" lang="en-US" sz="2400" spc="-1" strike="noStrike">
              <a:solidFill>
                <a:srgbClr val="000000"/>
              </a:solidFill>
              <a:latin typeface="Tw Cen MT"/>
            </a:endParaRPr>
          </a:p>
        </p:txBody>
      </p:sp>
    </p:spTree>
  </p:cSld>
  <p:transition spd="med">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omponents of the Employment Service</a:t>
            </a:r>
            <a:endParaRPr b="0" lang="en-US" sz="4000" spc="-1" strike="noStrike">
              <a:solidFill>
                <a:srgbClr val="775f55"/>
              </a:solidFill>
              <a:latin typeface="Tw Cen MT"/>
            </a:endParaRPr>
          </a:p>
        </p:txBody>
      </p:sp>
      <p:pic>
        <p:nvPicPr>
          <p:cNvPr id="366" name="Snagit_PPT66" descr="PPT66.png"/>
          <p:cNvPicPr/>
          <p:nvPr/>
        </p:nvPicPr>
        <p:blipFill>
          <a:blip r:embed="rId1"/>
          <a:srcRect l="10835" t="23337" r="13632" b="14000"/>
          <a:stretch/>
        </p:blipFill>
        <p:spPr>
          <a:xfrm>
            <a:off x="380880" y="1981080"/>
            <a:ext cx="8523360" cy="4419720"/>
          </a:xfrm>
          <a:prstGeom prst="rect">
            <a:avLst/>
          </a:prstGeom>
          <a:ln w="0">
            <a:noFill/>
          </a:ln>
        </p:spPr>
      </p:pic>
    </p:spTree>
  </p:cSld>
  <p:transition spd="med">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Client Service Planning &amp; Coordination</a:t>
            </a:r>
            <a:endParaRPr b="0" lang="en-US" sz="4000" spc="-1" strike="noStrike">
              <a:solidFill>
                <a:srgbClr val="775f55"/>
              </a:solidFill>
              <a:latin typeface="Tw Cen MT"/>
            </a:endParaRPr>
          </a:p>
        </p:txBody>
      </p:sp>
      <p:sp>
        <p:nvSpPr>
          <p:cNvPr id="368" name=""/>
          <p:cNvSpPr txBox="1"/>
          <p:nvPr/>
        </p:nvSpPr>
        <p:spPr>
          <a:xfrm>
            <a:off x="612720" y="1600200"/>
            <a:ext cx="8153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EO service providers must determine an individual’s primary service need:</a:t>
            </a:r>
            <a:endParaRPr b="0" lang="en-US" sz="32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Use the Resource &amp; Information component</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ferral to other services (either before or concurrent with Employment Service)</a:t>
            </a:r>
            <a:endParaRPr b="0" lang="en-US" sz="28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eed for assisted Employment Service components</a:t>
            </a:r>
            <a:endParaRPr b="0" lang="en-US" sz="2800" spc="-1" strike="noStrike">
              <a:solidFill>
                <a:srgbClr val="000000"/>
              </a:solidFill>
              <a:latin typeface="Tw Cen MT"/>
            </a:endParaRPr>
          </a:p>
        </p:txBody>
      </p:sp>
    </p:spTree>
  </p:cSld>
  <p:transition spd="med">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EO Providers will Consider…</a:t>
            </a:r>
            <a:endParaRPr b="0" lang="en-US" sz="4400" spc="-1" strike="noStrike">
              <a:solidFill>
                <a:srgbClr val="775f55"/>
              </a:solidFill>
              <a:latin typeface="Tw Cen MT"/>
            </a:endParaRPr>
          </a:p>
        </p:txBody>
      </p:sp>
      <p:sp>
        <p:nvSpPr>
          <p:cNvPr id="370" name=""/>
          <p:cNvSpPr txBox="1"/>
          <p:nvPr/>
        </p:nvSpPr>
        <p:spPr>
          <a:xfrm>
            <a:off x="612720" y="1600200"/>
            <a:ext cx="8153280" cy="4495680"/>
          </a:xfrm>
          <a:prstGeom prst="rect">
            <a:avLst/>
          </a:prstGeom>
          <a:noFill/>
          <a:ln w="0">
            <a:noFill/>
          </a:ln>
        </p:spPr>
        <p:txBody>
          <a:bodyPr anchor="t">
            <a:normAutofit fontScale="80000"/>
          </a:bodyPr>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Individuals’ employability dimensions</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personal skills, work history, education</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Suitability Indicators (further information)</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The demands of the potential employer</a:t>
            </a:r>
            <a:endParaRPr b="0" lang="en-US" sz="36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w Cen MT"/>
              </a:rPr>
              <a:t>Opportunities within the labour market</a:t>
            </a:r>
            <a:endParaRPr b="0" lang="en-US" sz="36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trends in the region</a:t>
            </a:r>
            <a:endParaRPr b="0" lang="en-US" sz="3200" spc="-1" strike="noStrike">
              <a:solidFill>
                <a:srgbClr val="000000"/>
              </a:solidFill>
              <a:latin typeface="Tw Cen MT"/>
            </a:endParaRPr>
          </a:p>
          <a:p>
            <a:pPr lvl="1" marL="511560" indent="-21816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Training opportunities</a:t>
            </a:r>
            <a:endParaRPr b="0" lang="en-US" sz="3200" spc="-1" strike="noStrike">
              <a:solidFill>
                <a:srgbClr val="000000"/>
              </a:solidFill>
              <a:latin typeface="Tw Cen MT"/>
            </a:endParaRPr>
          </a:p>
          <a:p>
            <a:pPr marL="254880" indent="-2548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transition spd="med">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Resource &amp; Information</a:t>
            </a:r>
            <a:endParaRPr b="0" lang="en-US" sz="4400" spc="-1" strike="noStrike">
              <a:solidFill>
                <a:srgbClr val="775f55"/>
              </a:solidFill>
              <a:latin typeface="Tw Cen MT"/>
            </a:endParaRPr>
          </a:p>
        </p:txBody>
      </p:sp>
      <p:sp>
        <p:nvSpPr>
          <p:cNvPr id="372" name=""/>
          <p:cNvSpPr txBox="1"/>
          <p:nvPr/>
        </p:nvSpPr>
        <p:spPr>
          <a:xfrm>
            <a:off x="612360" y="1599840"/>
            <a:ext cx="8783640" cy="5257800"/>
          </a:xfrm>
          <a:prstGeom prst="rect">
            <a:avLst/>
          </a:prstGeom>
          <a:noFill/>
          <a:ln w="0">
            <a:noFill/>
          </a:ln>
        </p:spPr>
        <p:txBody>
          <a:bodyPr anchor="t">
            <a:normAutofit fontScale="90000"/>
          </a:bodyPr>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pen access service for the community</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No eligibility or access criteria (intake)</a:t>
            </a:r>
            <a:endParaRPr b="0" lang="en-US" sz="28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cludes:</a:t>
            </a:r>
            <a:endParaRPr b="0" lang="en-US" sz="32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Labour market information</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Resources to support independent (unassisted) job search</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Career clarification and planning</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Information on local training opportunities, local employment opportunities, community service support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Provides a means for employers to recruit employees</a:t>
            </a:r>
            <a:endParaRPr b="0" lang="en-US" sz="28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575640" indent="-2455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p:transition spd="med">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Workshops / Info Sessions</a:t>
            </a:r>
            <a:endParaRPr b="0" lang="en-US" sz="4400" spc="-1" strike="noStrike">
              <a:solidFill>
                <a:srgbClr val="775f55"/>
              </a:solidFill>
              <a:latin typeface="Tw Cen MT"/>
            </a:endParaRPr>
          </a:p>
        </p:txBody>
      </p:sp>
      <p:sp>
        <p:nvSpPr>
          <p:cNvPr id="374" name=""/>
          <p:cNvSpPr txBox="1"/>
          <p:nvPr/>
        </p:nvSpPr>
        <p:spPr>
          <a:xfrm>
            <a:off x="612720" y="1600200"/>
            <a:ext cx="8531280" cy="449568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Orientation to Employment Service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Resume &amp; Cover Letter</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Job Search</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Interview Skills</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w Cen MT"/>
              </a:rPr>
              <a:t>Labour Market Information / Career Exploration</a:t>
            </a:r>
            <a:endParaRPr b="0" lang="en-US" sz="32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p:transition spd="med">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3T19:09:21Z</dcterms:created>
  <dc:creator>shannon.crawford</dc:creator>
  <dc:description/>
  <dc:language>en-US</dc:language>
  <cp:lastModifiedBy>aholmes</cp:lastModifiedBy>
  <dcterms:modified xsi:type="dcterms:W3CDTF">2011-07-08T18:27:50Z</dcterms:modified>
  <cp:revision>54</cp:revision>
  <dc:subject/>
  <dc:title>Employment  Programs and Services  Service Canada &amp; Province of Ontario</dc:title>
</cp:coreProperties>
</file>